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4.wmf" ContentType="image/x-wmf"/>
  <Override PartName="/ppt/media/camera.wav" ContentType="audio/x-wav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AED-FA9E-42B8-B724-3503B58A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A64-C7DB-450B-B889-1740BAFB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F9F-2ED3-4449-811E-D4A6F7F6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BCAE-CFA0-4463-AC20-19803F39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6F64-9686-4ED8-9B4C-C022134C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75AE-CCCD-42B8-A849-FEB0B208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0A52-8F16-46AF-952F-6B3893D4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C28A-D77C-4FA7-90E1-BB633184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23E6-0B81-4519-B125-D97D9243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42BD-3291-4E33-8CDE-D86C41F6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6B0D-81C1-41E4-8294-710DD0CA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202-6C0D-4834-9C12-5716CB68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97A4-2B98-4963-AC28-FDD7186A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617A-44E7-4755-BC24-4B15DE24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847C-B6E9-4F84-9214-8EA45928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8421-7C17-41F4-80E8-C50276BD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BA2E-8627-47BF-BA95-C2FAAA0C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A047-39DB-456A-BA0D-189BD4FC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689F-4201-41D6-9EA4-1822E325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FFA-0FA7-4FA2-9859-5ECA6A14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3EC-BE34-4BAC-9A87-8D1153C6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49CA-C9BB-4CF7-A5AA-775F7141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686-2FF2-4136-9913-6A281013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2D9-2D08-45CD-9B16-4C7AEDEE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3016-661D-41E9-9206-5550D1BB9643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5D1C-5B74-46D1-AD04-AC6615839CA0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33"/>
                </a:solidFill>
                <a:latin typeface="Comic Sans MS"/>
              </a:rPr>
              <a:t>How to write a story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819520" y="2743200"/>
            <a:ext cx="37764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996633"/>
                </a:solidFill>
                <a:latin typeface="Times New Roman"/>
              </a:rPr>
              <a:t>First you have to….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de who the characters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is going to be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ort of characters are the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705720" y="1600200"/>
            <a:ext cx="208440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029200" y="3814920"/>
            <a:ext cx="2556000" cy="249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895480" y="4876920"/>
            <a:ext cx="113364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79680" y="68544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Next consider ….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and when your story is going to take pla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called the set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133720" y="4343400"/>
            <a:ext cx="137448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724280" y="4038480"/>
            <a:ext cx="2212920" cy="1220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095880" y="1981080"/>
            <a:ext cx="2590920" cy="1844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038480" y="5638680"/>
            <a:ext cx="144792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s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4419720"/>
            <a:ext cx="10670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Pa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5715000"/>
            <a:ext cx="175284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Fu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Time for the Problem…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going to happen in your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main even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ype of story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81080" y="4343400"/>
            <a:ext cx="213372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172200" y="4495680"/>
            <a:ext cx="1981080" cy="1946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438280" y="2286000"/>
            <a:ext cx="24386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Include Important Event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mmary of what happens in th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s in the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known as the pl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90920" y="4572000"/>
            <a:ext cx="1831680" cy="1841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477120" y="2133720"/>
            <a:ext cx="2247840" cy="1753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410080" y="3962520"/>
            <a:ext cx="15670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Finally ….the Solution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  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t all 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lem is sol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ype of en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ppy? S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2406600" cy="1939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657600" y="4267080"/>
            <a:ext cx="1947960" cy="198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1905120" cy="1789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 flipH="1" rot="10800000">
            <a:off x="2286000" y="4191120"/>
            <a:ext cx="108576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Think about ……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238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579132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3366"/>
                </a:solidFill>
                <a:latin typeface="Poor Richard"/>
              </a:rPr>
              <a:t>These will help you to know 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itchford</cp:lastModifiedBy>
  <dcterms:modified xsi:type="dcterms:W3CDTF">2005-06-01T09:39:44Z</dcterms:modified>
  <cp:revision>2</cp:revision>
  <dc:subject/>
  <dc:title>How to write a story</dc:title>
</cp:coreProperties>
</file>